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AF3D7-4A5F-4C69-8E3C-949DEA1CE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95E23-ED98-49A1-894A-B7EC80A2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F58BA-76E0-4EDA-8D14-82FC2F69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E64B6-70AE-4788-B3C8-DC6A3938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B298-3800-4A87-B5F4-671D5D5E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2CE3-9F29-458A-9246-87AE8184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7444-FFC4-40FF-9B93-BB3E8499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E0C1-6B87-406F-8B08-9F8F949A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9142-DF33-4E31-9AD5-48B140E4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5FD9-B956-404F-98D4-C4939E4F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EEAF-58BC-4027-8F6C-FE93D7E2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95B7C-DB78-4B27-A170-FFC22245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EECA-E2D9-4309-983E-E811A6EA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986A-A5DC-444D-85B1-8BBE2B2D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A414-A75E-4284-BA27-3435849A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30DE-1DE3-49D7-8D9F-B5AA77D4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66AF-EEF9-43ED-8F95-D3FEACE4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24D50-E926-4374-ABDC-084E0F85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BA618-6B68-4080-B24B-1236E776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192DD-3B20-4490-B96F-B1EBEC1E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3660C-AF53-4EC3-8D0C-2D10FDC8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ACA81-82B4-4BEC-B470-1C522D86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BC1FA-7B96-497D-A7DA-322607D6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86638-CD16-45F0-9A4D-BE4B4FFD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42D0-49CF-4F8F-95B8-4F40EA1785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59FB-D4E6-4A04-8CC5-2AAD97BE8F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pereira@usp.br" TargetMode="External"/><Relationship Id="rId2" Type="http://schemas.openxmlformats.org/officeDocument/2006/relationships/hyperlink" Target="mailto:pereirace@uol.com.br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Escolha Social, Estratégia e Racionalidade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Uma Introdução à Teoria dos Jogos na Polí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ula 2 (11/08/2004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reliminares sobre jogos, estratégia e racionalidad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: 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Carlos Pereira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1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capereira@usp.br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pt-BR" sz="1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pereirace@uol.com.br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do a racionalidade Fal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terminação dos desejos e crenças (impossibilidade de hierarquização) quando a evidência é insuficiente para justificar a ação.Na impossibilidade de determinação, a carga explicativa é transferida para algo denominado “suficientemente bom”. As vezes, “nada é mais racional do que abdicar da razão” (Pas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escolher o que acreditam ser o melhor para realizar os seus dese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nças irracionais (acreditar que os fatos são como a pessoa gostaria que fosse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oblemas para a Ação Cole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eresse Co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amanho do gru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ciê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ficácia marginal da ação individual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vis-a-vi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seu c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rona (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free-rid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enefícios não dependem da particip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aídas para os problemas de ação coletiv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duzir o tamanho do gru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pel da coer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centivos Sel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simetria entre os inte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ragmentar a 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rganiz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eal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duzir os custos da particip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ros Problem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vo Instituciona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jetória de Dependê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gos estratégic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fronto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head-to-head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ntre dois participa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EUA vs. URSS; negociação de salários entre a GM e Sindicato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smo relações impessoais no mercado com milhares de participantes podem ser melhor entendidas através de interações estratégicas entre poucos (dois jogadores) jogos separ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romissos mútuos (ex. dono da casa e pedrei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ormações Privadas (ex. fazendeiro e banquei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ndo Jog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movimentos dos jogadores são seqüenciais ou simultâne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 distinção é importante porque estes dois tipos de jogos requerem diferentes tipos de pensamento inter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üênci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eu fizer isso, como meu oponente reagirá? Será que tem alguma vantagem eu agir primeiro ou depois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tâne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obrir o que o meu oponente fará no mesmo instante que eu agir”. Assim, a estratégia dos jogadores é apenas a ação exercida naquela específica ocasi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ndo Jog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rá que os interesses dos jogadores são totalmente conflitantes, ou existiria algum interesse comum? (Conflito vs. Cooperaç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ogos de soma-zero (interesses conflitan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ogos de soma-positiva (não significa que os interesses sejam completamente alinhados). Os jogadores podem cooperar para produzir uma grande torta, mas podem conflitar na disputa pelo maior pedaç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s de formação de alianças e coaliz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ndo Jog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jogo é jogado em apenas um episódio ou de forma repetida? Contra o mesmo oponen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ne-shot gam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segredo e a surpresa são importantes componentes de uma boa estraté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ogos de repetiçã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utação adquire um papel fundamental bem como inform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ssibilidades de cooperação aumenta bem como de punição dos comportamentos desviantes (futebol americano seleciona jogadores na ordem inversa; ciclistas cooperam até o momento final quando a cooperação colapsa; governos de coalizão permanecem coesos até as eleições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ndo Jog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rá que os jogadores têm igualdade informacional ou informação comple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diferentes jogadores têm desigualdade informacional, a manipulação destas informações torna-se um jo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é estratégico para os jogadores mais informados revelar e quando não é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velar apenas o que for trazer vantagem para mim 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signaling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o confiar nestes tipos de informação 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signa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? Que tipo de evidência pode ser considerada crív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os jogadores menos informados podem criar situações que revelam de forma crível suas intençõ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Screening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ex. jogo do namoro da aula passa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ndo Jog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regras do jogo são fixas ou podem ser alterad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que dizer das regras que são difíceis de serem alteradas como as constituiçõ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do as regras podem ser mudadas, muitas vezes o momento mais importante é o pré-jogo, quando as regras do jogo estão sendo defin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que certas regras são fáceis de serem alteradas e outras nã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ndo Jog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acordos orientados para 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oper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são capazes de ser cumpridos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nforcebl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todos os atores agirem imediatamente e na presença de todos é mais fácil de acordos serem cumpridos. Mas acordos desta natureza são ra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is as condições de observação do cumprimento do acord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necessário uma terceira parte que zele pelo cumprimento do acor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aioria das ações dos atores no cumprimento ou não dos acordos não são diretamente observáveis e nem tão pouco sã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nforceble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 isso são chamados de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ão-cooperativ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resultado destes jogos não-cooperativos, entretanto, pode ser a cooperação desde que seja vantajoso para as partes especialmente em interações repeti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 seja, cooperação será o resultado de jogos não-cooperativos apenas se for do interesse dos participantes individuais continuar seguindo as ações previamente prescri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rutura de um jogo estratégic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ratégias disponíveis para todos os jog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ano de 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 ele fizer “A” eu faço “X”, mas se ele fizer “B” eu faço “Y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ompensa 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ayof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o valor associado a cada um dos possíveis resultados do jogo) e Recompensa esperada 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xpected payof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A probabilidade média esperada do resultado do jog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acionalidade (conhecimento dos seus próprios interesses, cálculo consistente sobre qual das ações possíveis pode servir melhor estes interesses e a pressuposição de que maximizará a utilidade decorrente destas açõ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hecimento geral das regras do j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quilíbrio. Não significa que as coisas não mudam nem significa que as coisas estão funcionando da melhor manei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13:40:59Z</dcterms:created>
  <dc:creator>Carlos Pereira</dc:creator>
  <dc:description/>
  <dc:language>en-US</dc:language>
  <cp:lastModifiedBy>Carlos Pereira</cp:lastModifiedBy>
  <dcterms:modified xsi:type="dcterms:W3CDTF">2004-08-11T16:17:35Z</dcterms:modified>
  <cp:revision>9</cp:revision>
  <dc:subject/>
  <dc:title>Escolha Social, Estratégia e Racionalidade:  Uma Introdução à Teoria dos Jogos na Polít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17414435</vt:r8>
  </property>
  <property fmtid="{D5CDD505-2E9C-101B-9397-08002B2CF9AE}" pid="3" name="_AuthorEmail">
    <vt:lpwstr>capereira@usp.br</vt:lpwstr>
  </property>
  <property fmtid="{D5CDD505-2E9C-101B-9397-08002B2CF9AE}" pid="4" name="_AuthorEmailDisplayName">
    <vt:lpwstr>Carlos Pereira</vt:lpwstr>
  </property>
  <property fmtid="{D5CDD505-2E9C-101B-9397-08002B2CF9AE}" pid="5" name="_EmailSubject">
    <vt:lpwstr>Curso Teoria dos Jogos</vt:lpwstr>
  </property>
</Properties>
</file>